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A27636-9E81-41F2-BD01-D1FB5B11387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432FBB-9D11-4A58-96A0-9439EBEBE1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651BA7-219F-4B44-9D07-33201DFC3D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D41AE1-8D41-4F82-BA30-F64CBC4590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33C0B6-3D1B-4141-989A-F0523FD8408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5B1779-7B2E-4074-AD32-F64F01098A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373F87-3B07-4E9F-854B-93B8253ED88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872C29-C1EC-4A3C-8B35-2A337315ECA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516878-6C37-490B-B79A-2C6BB8C179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9100-8892-44F8-8F2B-806062487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69F73-21DD-4FF1-AB2F-28BD7295750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3A58-5A2C-46CC-ADC1-FA7219F3272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D6216-3C05-4E17-95E2-69E63380B39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CEFA1-E4D7-49BE-9F77-826FD422EA6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8ED8-5E5E-4CFD-B097-51E462BA497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32918-E040-43AA-ACFC-F7C2483E5AD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D94FD-B8D6-4B8A-A64D-769D982E677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B8248-F122-4119-8E06-35363B90250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86071-5C1D-4F61-B411-2518EB0367D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D2012-63DD-48AA-AE89-1AFFE14FC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FB2A2-30BB-4CC2-ACEE-C3683159731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E4EC7-2D2A-465B-BB1B-7BA89377BE7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986E9-CB7B-4E4E-9507-EFF4445187E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79173-A80B-4D17-B01A-C9C94333A3F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A375E-14EE-4E91-8F88-9D971A95245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10C30-A60F-49CE-A9C2-1865CD523F8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24BA9-CE9E-4C16-BEA6-787CCDFDAFF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492D6-D01C-4E6F-9D74-C2B6A5074FD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686E7E-F06D-47B0-96CB-6DB194C989F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B8989-7346-4298-95EF-4BC8CD349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F12A-1F4B-492A-916B-0119AD1997A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8BEA7E-ADC6-461A-86B6-0CF743DCD16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19A03-414E-4239-941F-D1E48ADBFAA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264F62-4CBA-4163-9D92-C789BDD7EF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30E6-935A-42F6-BB24-C4F34A8560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F1F7-7A09-44B9-83EA-B16E353BCC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87E0-B34B-46FD-ACEC-0AF8C8254A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1296-1947-462F-9287-4990F78DFD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2AF2-7DA3-4928-9BD6-AE4B232430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3DEC-2C8B-4B1E-A91F-FCCA6D4F6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AEC1-0BDB-47B0-9658-3D07CCC005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6445-675C-4BE7-8053-0FB3FB7B17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5F3C-88DD-4DDD-BCB7-FAFCDB0374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35CF-AA06-4173-A065-BEC66240D9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A2B5-D845-4372-AB24-FFAAB29F94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77649-CF74-4877-8D35-BCC8732DAA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861FB-432D-4B1C-9998-48D931A1F8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4C1FB-174A-473B-8F37-EB4FEC4A4A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495CC-261E-4BEC-8075-E69BAB61C7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48D88-A4AF-4C86-A90B-5DDF657E1E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22AFB-4D56-447F-BB39-7B33FA75F0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658E7-F714-4579-A0EC-F99354DED1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11A19-6BCE-43FD-80D9-BBE58AFAAB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BBAEB-271D-493C-BE56-466BE319FC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7E509-2505-44B4-9FC0-10FB82FCF4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E6C84-3686-4C57-AFFE-05A066779D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44E81-FAC7-4AC0-80AD-7C115743A4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B6BD-BCC0-4A8D-AAED-94985FDDC1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F092-3DF2-4E8A-A6F9-5578CE6198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3CAB-3A45-42A4-99C1-6BAB9E44E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7A8D-DDDB-4F72-83D2-D295377BC0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C61B-C81A-4478-BB6A-7036E763BF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79F7-A143-4CA1-BD6A-A345826183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5263-74E8-418F-80F2-9AB52DDE10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2179-3F95-4388-9DBC-342935ED7A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D32A-2537-4E5A-B243-0FB9C6A87F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E6FC-26BF-4D5B-9CC6-4BD3BCEB09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B8F1-6E69-4919-BA60-507CD51BB2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00EE-FABF-405E-B97A-EE342A01C31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B42ED-5338-4F3A-A367-813238841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929DC-F4F3-4BDA-8D3F-B6BACCDB86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C7449-C92E-431F-B5F0-FECF293ADAE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CDC89-EA21-4103-A640-38A333C5061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BC9B9-FFD3-4E0D-8163-3CF9564865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02108-E8F8-4D95-A543-2F444A1FE75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C1BEF-0B1A-45CC-94CC-817ED8C926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B9C1D-259A-4C28-B63A-A3851A0172E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D26F2-304D-4434-9C83-95F8F9F70A0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681F0-C10C-4573-9EFB-B0F1657E2F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D2E48-7488-4F17-9D5F-8E9EB5ABF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7354E-732F-4850-87CF-606C00A407E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612191-43C5-4305-9F03-09F4B977DA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30C5F-FC27-4FF5-B271-547257865A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6996D-B66D-4860-A462-1A2D0E26D4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90B84-727E-4085-B049-E54174C942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39C4CE-1F6C-4A36-A437-C3E9543A85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55490-3277-4616-9771-1273217E85A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D5593-864C-4757-A0E8-8899724910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C0B311-07DE-4D8B-A1B8-E3370FFB68F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746254-FBE7-4E8E-89A6-BCBD880D3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5B29A-C99D-4421-859C-B66132D1952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247CC-1E49-4BF2-B436-211E165817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04938C-27C5-448B-AEB1-83EF6D428C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87CE-3229-4DF0-9E69-3A9FF2793F5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E459-074E-4B41-8BC5-F600E73279B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EEB2F-FEE3-4A6F-96A4-4FBFBADA6C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233FB-D192-4D58-A6A7-D6F1637B111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9E69-4E21-4960-A3A5-C13C4549582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4F10-7BF2-47A7-A191-A358D2675A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A1FD-DA0A-41A7-83A2-D9C8837D1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1709-6DE6-455B-8015-F96BD7919F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304E-D482-4AFC-8775-33115302143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90FCA-CE6A-40C5-BE98-38D25F11F30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7B04F-23BF-4008-8A4A-ED68EEE34FA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402C-0D00-4161-8A35-0F5297030AC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E5D32-1EF2-47F9-8DAE-77A91A6D35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38379-4F34-49B7-8798-5C209E2505C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C8346-9AD5-45A3-8EB0-175EA6C81B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71E95-9445-43B4-AF46-14333E1308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AB9AC-7172-480A-A31E-260FA03DD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D3203-3464-4517-AFDA-5C8047070E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3B347-7D7F-413E-97DE-C387066F89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08BE3-7DCB-4B0D-9F9B-D109543A7A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FA71F-52BD-4478-BED2-D29E45901B6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D0D22-D77E-4140-A743-FA9F0DDF99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EFB13-8905-4E31-B388-DD3B4FC6339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6A6FC-F111-4D5A-B1F2-A8D15674C85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2408C0-F439-42EC-8AD9-90B2D4B2ED3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1B9971-4A6C-44E8-A4FF-10EB9B13B5C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AC1010-963C-4F91-B948-BC455DDD2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545C-5D77-49EA-BA35-BD677F53794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3EA5-A248-4C80-833D-FCC886A184DC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C208-73CE-482E-A2EE-7C3A6E74A8F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5C51-BFE4-4A64-A903-B2686EBB0D8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DCF4-F730-475A-B0D5-18BFEE87F50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0657-DB6D-4F04-B2AD-FABF7701813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5C87-6683-45C4-94B1-44E9BA11002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73FF-5E95-4D08-9E2A-8F694495DD7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9B7D-287E-4CCB-BF93-B08EEDD95F7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9425-8E9C-44A9-B4C3-C688107D3D5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90792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Wood Desig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Mariano Chernicoff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60 Polimi + 5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476280" y="3213000"/>
            <a:ext cx="8343720" cy="1876680"/>
          </a:xfrm>
          <a:prstGeom prst="rect">
            <a:avLst/>
          </a:prstGeom>
          <a:ln w="0">
            <a:noFill/>
          </a:ln>
        </p:spPr>
      </p:pic>
      <p:pic>
        <p:nvPicPr>
          <p:cNvPr id="455" name="Immagine 6" descr="pensare.jpg"/>
          <p:cNvPicPr/>
          <p:nvPr/>
        </p:nvPicPr>
        <p:blipFill>
          <a:blip r:embed="rId2"/>
          <a:stretch/>
        </p:blipFill>
        <p:spPr>
          <a:xfrm>
            <a:off x="6729480" y="465120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preparare i disegni per una cil"/>
          <p:cNvPicPr/>
          <p:nvPr/>
        </p:nvPicPr>
        <p:blipFill>
          <a:blip r:embed="rId3"/>
          <a:stretch/>
        </p:blipFill>
        <p:spPr>
          <a:xfrm>
            <a:off x="3998880" y="4651200"/>
            <a:ext cx="2584440" cy="1872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E:\POLITECNICO\Didattica\AA 2013-2014\Wood_design\Foto\foto DIANA\Fotos Diana (progetti)\14-05-07 Il giocco dei Dieci\DSC_0128.JPG"/>
          <p:cNvPicPr/>
          <p:nvPr/>
        </p:nvPicPr>
        <p:blipFill>
          <a:blip r:embed="rId4"/>
          <a:stretch/>
        </p:blipFill>
        <p:spPr>
          <a:xfrm>
            <a:off x="542880" y="4973760"/>
            <a:ext cx="33098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3"/>
          <p:cNvSpPr/>
          <p:nvPr/>
        </p:nvSpPr>
        <p:spPr>
          <a:xfrm>
            <a:off x="981720" y="1731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250920" y="907920"/>
            <a:ext cx="684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Wood Desig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Il legno a 360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Dall’albero al prodotto finit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I diversi tipi di legno, natura e campi d’applicazioni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Lavorazioni e processi produttivi artigianali / industrial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Nuove tecnologie e materiali del settor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Designer ‘post-industriali’: autoproduzione nel XXI secolo. </a:t>
            </a:r>
            <a:r>
              <a:rPr b="1" i="1" lang="it-IT" sz="1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Makers</a:t>
            </a:r>
            <a:r>
              <a:rPr b="1" lang="it-IT" sz="1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: tra design, artigianato e imprenditorialità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Visite in industrie del settore ed ospiti specializzat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Conoscenza pratica, materica ed esperienzial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1" name="Picture 5" descr="E:\POLITECNICO\Didattica\AA 2012-2013\Wood Design\Foto corso 2013\E1_Campionario\E1_Campionario SQ\DSC_5660.jpg"/>
          <p:cNvPicPr/>
          <p:nvPr/>
        </p:nvPicPr>
        <p:blipFill>
          <a:blip r:embed="rId1"/>
          <a:stretch/>
        </p:blipFill>
        <p:spPr>
          <a:xfrm>
            <a:off x="324000" y="5251320"/>
            <a:ext cx="1584000" cy="1273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E:\POLITECNICO\Didattica\AA 2012-2013\Wood Design\Foto corso 2013\E4_Poltroncina\E4_Poltroncina SQ\9b.jpg"/>
          <p:cNvPicPr/>
          <p:nvPr/>
        </p:nvPicPr>
        <p:blipFill>
          <a:blip r:embed="rId2"/>
          <a:stretch/>
        </p:blipFill>
        <p:spPr>
          <a:xfrm>
            <a:off x="324000" y="3956040"/>
            <a:ext cx="1584000" cy="1251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E:\POLITECNICO\Didattica\AA 2012-2013\Wood Design\Foto corso 2013\E3_Tagliere\E3_Tagliere SQ\DSC_2848.jpg"/>
          <p:cNvPicPr/>
          <p:nvPr/>
        </p:nvPicPr>
        <p:blipFill>
          <a:blip r:embed="rId3"/>
          <a:stretch/>
        </p:blipFill>
        <p:spPr>
          <a:xfrm>
            <a:off x="7162920" y="5281560"/>
            <a:ext cx="1873080" cy="1243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3" descr="C:\Users\Mariano\Desktop\DSC_5741.jpg"/>
          <p:cNvPicPr/>
          <p:nvPr/>
        </p:nvPicPr>
        <p:blipFill>
          <a:blip r:embed="rId4"/>
          <a:stretch/>
        </p:blipFill>
        <p:spPr>
          <a:xfrm>
            <a:off x="1976400" y="5516640"/>
            <a:ext cx="1300320" cy="1008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4" descr="C:\Users\Mariano\Desktop\DSC_5587.jpg"/>
          <p:cNvPicPr/>
          <p:nvPr/>
        </p:nvPicPr>
        <p:blipFill>
          <a:blip r:embed="rId5"/>
          <a:stretch/>
        </p:blipFill>
        <p:spPr>
          <a:xfrm>
            <a:off x="3348000" y="551664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5" descr="C:\Users\Mariano\Desktop\DSC_5512.jpg"/>
          <p:cNvPicPr/>
          <p:nvPr/>
        </p:nvPicPr>
        <p:blipFill>
          <a:blip r:embed="rId6"/>
          <a:stretch/>
        </p:blipFill>
        <p:spPr>
          <a:xfrm>
            <a:off x="4572000" y="5516640"/>
            <a:ext cx="1295280" cy="1008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6" descr="C:\Users\Mariano\Desktop\DSC_5565.jpg"/>
          <p:cNvPicPr/>
          <p:nvPr/>
        </p:nvPicPr>
        <p:blipFill>
          <a:blip r:embed="rId7"/>
          <a:stretch/>
        </p:blipFill>
        <p:spPr>
          <a:xfrm>
            <a:off x="5940360" y="5516640"/>
            <a:ext cx="1152720" cy="1000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C:\Users\Mariano\Desktop\R_G5_008.2.jpg"/>
          <p:cNvPicPr/>
          <p:nvPr/>
        </p:nvPicPr>
        <p:blipFill>
          <a:blip r:embed="rId8"/>
          <a:stretch/>
        </p:blipFill>
        <p:spPr>
          <a:xfrm>
            <a:off x="7162920" y="3429000"/>
            <a:ext cx="1873080" cy="17780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C:\Users\Mariano\Desktop\DSC_0033.jpg"/>
          <p:cNvPicPr/>
          <p:nvPr/>
        </p:nvPicPr>
        <p:blipFill>
          <a:blip r:embed="rId9"/>
          <a:stretch/>
        </p:blipFill>
        <p:spPr>
          <a:xfrm>
            <a:off x="1960560" y="3944880"/>
            <a:ext cx="1986120" cy="1500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C:\Users\Mariano\Desktop\C_G1_001.jpg"/>
          <p:cNvPicPr/>
          <p:nvPr/>
        </p:nvPicPr>
        <p:blipFill>
          <a:blip r:embed="rId10"/>
          <a:stretch/>
        </p:blipFill>
        <p:spPr>
          <a:xfrm>
            <a:off x="7164360" y="1114560"/>
            <a:ext cx="1871640" cy="22431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"/>
          <p:cNvPicPr/>
          <p:nvPr/>
        </p:nvPicPr>
        <p:blipFill>
          <a:blip r:embed="rId11"/>
          <a:stretch/>
        </p:blipFill>
        <p:spPr>
          <a:xfrm>
            <a:off x="4037040" y="3944880"/>
            <a:ext cx="3056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3"/>
          <p:cNvSpPr/>
          <p:nvPr/>
        </p:nvSpPr>
        <p:spPr>
          <a:xfrm>
            <a:off x="981720" y="1731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250920" y="90792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Wood Desig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5" name="Picture 2" descr="https://fbcdn-sphotos-f-a.akamaihd.net/hphotos-ak-xfp1/v/t1.0-9/10258986_325182564273557_5673297470724978006_n.jpg?oh=868479548f7fc1cda145884111fd822d&amp;oe=5435FB94&amp;__gda__=1415109661_5bd4119709849126e5057307a31b903d"/>
          <p:cNvPicPr/>
          <p:nvPr/>
        </p:nvPicPr>
        <p:blipFill>
          <a:blip r:embed="rId1"/>
          <a:stretch/>
        </p:blipFill>
        <p:spPr>
          <a:xfrm>
            <a:off x="2987640" y="1311120"/>
            <a:ext cx="5978520" cy="51422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https://scontent-b-mxp.xx.fbcdn.net/hphotos-xfp1/t1.0-9/10015646_323073361151144_1966290747488881878_n.jpg"/>
          <p:cNvPicPr/>
          <p:nvPr/>
        </p:nvPicPr>
        <p:blipFill>
          <a:blip r:embed="rId2"/>
          <a:stretch/>
        </p:blipFill>
        <p:spPr>
          <a:xfrm>
            <a:off x="324000" y="1311120"/>
            <a:ext cx="2571480" cy="1714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" descr="https://scontent-a-mxp.xx.fbcdn.net/hphotos-xpa1/l/t1.0-9/10155895_325182210940259_3437939331573857727_n.jpg"/>
          <p:cNvPicPr/>
          <p:nvPr/>
        </p:nvPicPr>
        <p:blipFill>
          <a:blip r:embed="rId3"/>
          <a:stretch/>
        </p:blipFill>
        <p:spPr>
          <a:xfrm>
            <a:off x="324000" y="3068640"/>
            <a:ext cx="2571480" cy="17143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https://fbcdn-sphotos-g-a.akamaihd.net/hphotos-ak-xpa1/v/t1.0-9/1502525_323055624486251_1308318988803082811_n.jpg?oh=8317c26fdbe206c6264e386827ddb635&amp;oe=544F0EE3&amp;__gda__=1413339102_3c1b4a9edb17d24308b891e1d45eb96b"/>
          <p:cNvPicPr/>
          <p:nvPr/>
        </p:nvPicPr>
        <p:blipFill>
          <a:blip r:embed="rId4"/>
          <a:stretch/>
        </p:blipFill>
        <p:spPr>
          <a:xfrm>
            <a:off x="324000" y="4821120"/>
            <a:ext cx="25714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Mariano Chernicoff</cp:lastModifiedBy>
  <cp:lastPrinted>2003-05-08T11:08:41Z</cp:lastPrinted>
  <dcterms:modified xsi:type="dcterms:W3CDTF">2014-07-30T04:43:21Z</dcterms:modified>
  <cp:revision>215</cp:revision>
  <dc:subject/>
  <dc:title>Inserire immagine della locandina, possibilmente in trasparenza e aggiungere Facoltà di Architettura Illustrazione prova di ammissione prof. Silvia Piardi (idem Cedolin)</dc:title>
</cp:coreProperties>
</file>